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73F-7AC0-4EE3-819F-110F0B6B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8A7-CC80-46CB-9E49-950EBE64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F3E-CCF7-408D-83A7-0EF7CA8D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D81-A76F-4EAE-AE70-F9C9347A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8E4-EFED-4FB7-B73C-C3742291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FED-F0C6-464A-AFEB-153B3F0C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848-B0EF-40BD-850E-F84CE2F4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75C-4F0A-4116-A5A7-26C97A3E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B45-1D5A-4FD6-96C2-2B34EA5B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FD2-DD50-4DCC-A6BF-B29BACF6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AF0-E4AE-4E61-BB6B-4D5E228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8EC-7309-4D36-A58E-AA658C55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651E-3463-42C5-B3DB-465AD380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 est l’artiste? (2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sme, dadaïsme, surréal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asso, Dalí, Braques, Chagall, Magritte, Du Champ, Lé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36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5000" y="23619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237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9339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933960" cy="5607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1680" y="45684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50976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172200" cy="6172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760" y="2133720"/>
            <a:ext cx="236196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97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48160" y="2285640"/>
            <a:ext cx="23619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97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040" y="2514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30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6643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1680" y="274284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6643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7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81480" y="2133720"/>
            <a:ext cx="236232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7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22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48160" y="761760"/>
            <a:ext cx="1904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22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692280"/>
            <a:ext cx="80010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2361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0866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6000" t="0" r="16000" b="0"/>
          <a:stretch/>
        </p:blipFill>
        <p:spPr>
          <a:xfrm>
            <a:off x="0" y="0"/>
            <a:ext cx="693432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6000" t="0" r="16000" b="0"/>
          <a:stretch/>
        </p:blipFill>
        <p:spPr>
          <a:xfrm>
            <a:off x="0" y="0"/>
            <a:ext cx="6934320" cy="6797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48160" y="2285640"/>
            <a:ext cx="23619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72200" y="2590920"/>
            <a:ext cx="236232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30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76201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7620120" cy="5810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12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914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914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071720"/>
            <a:ext cx="6248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1071720"/>
            <a:ext cx="6248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51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48160" y="2285640"/>
            <a:ext cx="23619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51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70866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0" y="24382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70866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6100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557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4360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557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192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3760" y="24382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192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2361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335240"/>
            <a:ext cx="693396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1335240"/>
            <a:ext cx="693396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00400" y="1522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0" y="24382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6100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19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90960" y="53316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19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3760" y="24382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457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24480" y="16761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457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001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98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001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0866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81680" y="18288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0866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815328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75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19560" y="76176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75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79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98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79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4737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5880" y="7617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4737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481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19560" y="76176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481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930240"/>
            <a:ext cx="807732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1280" y="-36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930240"/>
            <a:ext cx="807732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8153280" cy="6132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62360" y="533520"/>
            <a:ext cx="236196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674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4360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674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0400" y="1522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575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4360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575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532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38680" y="137124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532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0" t="0" r="0" b="10667"/>
          <a:stretch/>
        </p:blipFill>
        <p:spPr>
          <a:xfrm>
            <a:off x="609480" y="228600"/>
            <a:ext cx="50230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19560" y="190476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10667"/>
          <a:stretch/>
        </p:blipFill>
        <p:spPr>
          <a:xfrm>
            <a:off x="609480" y="228600"/>
            <a:ext cx="50230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197000"/>
            <a:ext cx="8077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5000" y="23619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1280" y="-36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197000"/>
            <a:ext cx="8077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9:17:29Z</dcterms:created>
  <dc:creator>Administrator</dc:creator>
  <dc:description/>
  <dc:language>en-US</dc:language>
  <cp:lastModifiedBy>Administrator</cp:lastModifiedBy>
  <dcterms:modified xsi:type="dcterms:W3CDTF">2011-06-02T20:23:18Z</dcterms:modified>
  <cp:revision>14</cp:revision>
  <dc:subject/>
  <dc:title>Qui est l’artiste? (2)</dc:title>
</cp:coreProperties>
</file>